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88F-9A39-4D0A-9025-991178B5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9D3-16CF-4AA3-9714-FC6709F6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0D5-F5A8-46D5-B52D-DC8C79A0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91F-8B8F-4CFC-BCC9-68A20404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AD5-87B8-4001-B442-1C1DB901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BB5-049B-47B6-8268-045211BA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3A8-2638-4FBF-9047-0FFBAD2E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865-89F6-49F5-B66B-78257CEB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030-6FE8-492E-B935-8531F447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24F-887C-4FC6-8B1C-736BE683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009-75A1-49F8-A8E9-34A2FB9C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E12-768D-44F8-9808-96B97088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FC48-A234-499F-BCFC-F2E630B34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e temps ent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anne et le liv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447920"/>
            <a:ext cx="6705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e jo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la pan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nt-ils des baobab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143000" y="1066680"/>
            <a:ext cx="72388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stronome tur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vu la planète d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838080" y="990720"/>
            <a:ext cx="7543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cru l’astronome tur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’anné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sa découver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emière imag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intrigué 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ilote comme enf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importance d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sin numéro 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85800" y="83808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essin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réussi à donner a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’il voul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83808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essin 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us grandiose d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v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371600" y="1447920"/>
            <a:ext cx="6095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essin que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’a pas osé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nimal qu’on ne vo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s dans dessin #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219320" y="114300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so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neiges….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447920" y="1143000"/>
            <a:ext cx="63244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général, un anim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est mang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 les autre anim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295280" y="1371600"/>
            <a:ext cx="6553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type d’ani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lant que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udrait collection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066680" y="1143000"/>
            <a:ext cx="678204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type d’ois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représente la pai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raisons pour lesque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ne voula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moutons dessinés par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371600" y="121932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plante comm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on met ..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Ter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295280" y="1371600"/>
            <a:ext cx="64771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i attache u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e à la Ter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e: la plan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rive dans l'a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143000" y="114300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orme d’u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e après d’être plant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puis quelques sema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143000" y="1219320"/>
            <a:ext cx="6629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’un rosier 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baobab o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comm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219320" y="1523880"/>
            <a:ext cx="67816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gorge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oesoph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371600" y="1828800"/>
            <a:ext cx="6095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rt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066680" y="1219320"/>
            <a:ext cx="72392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re ou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s parl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143000" y="1295280"/>
            <a:ext cx="71629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re je ne sais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s par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219320" y="1905120"/>
            <a:ext cx="67816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ser les d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14400" y="91440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on est étonné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peut _______ les yeux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066680" y="1676520"/>
            <a:ext cx="72392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andon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3 mot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90720" y="220968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se qu’il a rais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….. (3 mot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066680" y="1752480"/>
            <a:ext cx="72392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re ce soir ou dema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is pas mainten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4 mot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838080" y="1676520"/>
            <a:ext cx="7391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t d’un 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cider de faire q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2 mot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14400" y="990720"/>
            <a:ext cx="754380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r des choses qu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éress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autre person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5 mot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143000" y="2362320"/>
            <a:ext cx="6858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685800" y="685800"/>
            <a:ext cx="80010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n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838080" y="914400"/>
            <a:ext cx="7086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ci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mm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a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P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ie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ilo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mma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143000" y="990720"/>
            <a:ext cx="73915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éponse des G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s vo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sin #1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838080" y="990720"/>
            <a:ext cx="76964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onseil des G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profité a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lan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85800" y="990720"/>
            <a:ext cx="77724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s G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iment surt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914400"/>
            <a:ext cx="73911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quoi il fait par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se mettre à la port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GP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914400" y="1295280"/>
            <a:ext cx="73152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comme une G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cause de ce qu’il ne vo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762120" y="838080"/>
            <a:ext cx="77724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découvert la planè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PP, selon le pilo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838080" y="838080"/>
            <a:ext cx="76964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’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se pour voir les étoil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762120" y="838080"/>
            <a:ext cx="76960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habite 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on le pilo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09480" y="533520"/>
            <a:ext cx="762012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va-t-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vérifier u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couverte astronomiqu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143000" y="1066680"/>
            <a:ext cx="67057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taill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lanè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838080" y="99072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hef- d’œuv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 enf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e cor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219320" y="914400"/>
            <a:ext cx="68580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est le pilo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pourquo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143000" y="1066680"/>
            <a:ext cx="6629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asion pq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ilote pourr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ur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762120" y="838080"/>
            <a:ext cx="7315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 pilo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rche toujou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son boa ferm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91440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aison pq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ilote a décid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écrire ce liv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523880" y="1523880"/>
            <a:ext cx="632484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éress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09480" y="762120"/>
            <a:ext cx="792504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ueilleux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ut-être égoïs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295280" y="1600200"/>
            <a:ext cx="67057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d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219320" y="1219320"/>
            <a:ext cx="693396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s industri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i travaill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solumment certa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qc est corr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533520" y="914400"/>
            <a:ext cx="8229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w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time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762120" y="914400"/>
            <a:ext cx="7696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ressi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ici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762120" y="1295280"/>
            <a:ext cx="76197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one is sick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sheep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685800" y="914400"/>
            <a:ext cx="79246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pon hear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laugh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, I’m wi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m (m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838080" y="990720"/>
            <a:ext cx="75438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 is nic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 hers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hous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066680" y="1371600"/>
            <a:ext cx="70866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gar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milieu de la m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762120" y="8380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ictateur a exigé à son peu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us________ de s’habil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européenn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685800" y="91440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ontes de fé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cent 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0948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faut arracher les rac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mauvaises h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___ qu’on les distingu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371600" y="1143000"/>
            <a:ext cx="64771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était tellement choqu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 s’il a été frapp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 un coup de…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’auteur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eiges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’ar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imaux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t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b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ffici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ment s’appel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’auteur et quelles sont 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tes de sa naissance et mor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toine de Saint-Exupér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900- 194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371600" y="1600200"/>
            <a:ext cx="7086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ilote a été décourag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eindre qua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3-02-24T18:35:48Z</dcterms:modified>
  <cp:revision>75</cp:revision>
  <dc:subject/>
  <dc:title>No Slide Title</dc:title>
</cp:coreProperties>
</file>